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F1B7-2639-470C-9156-9B7BEEE7B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33A9-283F-486C-A2B9-AE55204BFB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66B7-FC8B-4CBA-A1B7-F961B89800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7FAD-C92E-49F1-AA0A-71B77D9E47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3174-AAB2-4B8F-AD88-07EB8C2CC5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8A9E-919A-4579-B4EB-E72D042223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DF0C-8DA5-46B4-82C7-1EC58309F5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1F69-DE71-40E9-9EE9-9383D840F2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B633-C3B3-40E7-86B1-31B24D603A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4883-D1DB-461A-981D-FCF5CAF1A9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16A4-CF02-4B26-BADE-103B2A78E9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A613-DC28-47CD-96E9-F12FE91D54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2A9A-6195-449E-9D2C-717284A12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3CCE-F984-47AA-94C8-77401DF60A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06FE-2043-475F-ACB5-5BFDFBB6C2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AC6-6747-41B8-A43D-8B41EA91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117-54C3-4451-AA9C-33157411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BA3-5A8C-4E8B-8670-54D2E4F4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14A-B5A3-401A-936D-7F378B85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EC03-D493-4811-B4DF-1F80A182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32E9-4DA9-4A54-A88A-0FD1D73A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E241-BBD6-4C8C-84C9-4E10FCD2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13BC-139E-48C7-B8D6-1859014E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CBDA-00D6-47D8-9363-2ABCEEA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C52E-CD7F-4B28-A29D-C536B2EC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C81D-3E0F-4AC3-B24C-F553247B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313-27DF-40D5-AB07-E845CA19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14BF-892F-4771-A39B-D9F9D1A0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AD00-29C8-43E9-A853-0FFDF1C8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5548-E85A-4D10-8FB1-40A77863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4E08-AFCF-498A-AB76-37E943E5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3159-F898-4AB9-A761-95AC866E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DCD5-DE41-4BD8-9050-AB4201DD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ACDAC-96CA-4FE5-A6AA-8A5CD1EC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FDBD-C419-4F5C-AD83-515CC1E8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96B1-C46C-48DF-8F9C-26AD19F5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CC77-66FC-4ABF-B7DE-65978056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A85-87A6-4F81-9F5B-3DA8AE59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5BB8-1F29-4469-AD59-16ED23FA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A5A9-9ECE-45A6-B3BD-9B357BA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EBD8-ECAD-4BC5-92B3-23F3494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D189-9AC3-4552-BD8C-DDAD8C6A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EB83-9279-4475-B290-B5E85543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BFFC-A022-49ED-B39D-403155CE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CAC2-E2CB-4EE4-B8A3-41A9C577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3079-25DB-4486-AF26-61D06444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4520-5B58-4744-BAF7-8A3EEC5A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460B1-C673-4288-B572-66A625B0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791-08B0-48B8-8A5B-79C4C0D3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ECB3-8DB3-42AC-BC8C-4804230D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700F3-3BA1-4855-81AE-34948AE4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69F7F-6B80-4FF4-87FE-BB9E0F5D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944E4-BCFA-497D-8C05-05B3320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4820-F6FF-425A-9746-049AB6EF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C49C2-93F8-4F4A-90E8-0E65E8BF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EFC2-53E2-48A5-9268-61737A91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94EB8-1735-4608-938D-7572D6E0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6C18-8BF7-4C23-9FA8-D4A9DB2B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9E122-5F1D-45DC-96A9-1EDCC00F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9D1-A969-4C23-90E0-AA60A37D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74DD7-0D6C-44A7-8304-6B63547C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B4D69-DC50-4E25-9F20-BA01F8D4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A048C-D8FE-458B-B066-66EA2185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6D1C9-0BB4-4B52-B363-917F9FE4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1A7B9-C8E8-4827-82F0-A412AA69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251C0-47AD-4418-80DF-27E771FE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F8C78-4230-4238-B393-1610CEA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FF8A6-072B-441B-AB1A-410A507E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DC77C-94F8-4C31-B0EF-70F3413D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0F2B3-8D1F-4302-9D8F-C83EFF50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FB4-F625-47D4-A714-8F618880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37D1-B932-45E1-B9AA-2D37E70F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3C1-6A0B-4621-83BA-40960C1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533-97DD-469D-9BDB-CC77833B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6FD-B375-4B46-AB67-8AE624F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AE88-1BAE-497C-B3F5-B4CA05744A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2951-F21A-43F5-B6C5-3910E94CD79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FB31-86DB-4312-8618-DC3D35AA5AA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B4DA-ED77-4B4A-8662-6846111B6C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99E6-A3A5-4AF6-BBFA-015F72720C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HYSIOLOGY OF 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PAIN IS NECESSARY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GNAL OF TISSUE INJURY OR DAMAG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 PROTECTIVE MECHANISM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e5dc"/>
                </a:solidFill>
                <a:latin typeface="Franklin Gothic Book"/>
              </a:rPr>
              <a:t>WHAT INFLUENCES PERSONS REACTION TO PAIN</a:t>
            </a:r>
            <a:endParaRPr b="0" lang="en-US" sz="36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ULTURAL VALUE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PAST EXPERIENCE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RELIGIUOUS BELIEF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PRESENCE OR LACK OF EMOTIONAL SUPPOR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NXIETY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AIN SCALE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 TOOL USED TO MEASURE A PERSON’S PERCEPTION OF PAIN INTENSITY AND QUALITY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ACE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NUMBER CHAR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58" name="Picture 5" descr="pain scale 1.jpg"/>
          <p:cNvPicPr/>
          <p:nvPr/>
        </p:nvPicPr>
        <p:blipFill>
          <a:blip r:embed="rId1"/>
          <a:stretch/>
        </p:blipFill>
        <p:spPr>
          <a:xfrm>
            <a:off x="4952880" y="3325680"/>
            <a:ext cx="37339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AIN RELIEF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NALGESIC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NARCOTIC 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NON NARCOTIC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MESSAG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CUPUNCTUR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EN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BIOFEEDBACK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MEDITATION,RELAXATION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SYCHOLOGICAL 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IS AS REAL AS PHYSICAL PAIN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AN BE ACUTE,CHRONIC OR INTRACTABLE, TRANSIEN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Perpetua"/>
              </a:rPr>
              <a:t>SUBJECTIVE, INDIVIDUALIZED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Perpetua"/>
              </a:rPr>
              <a:t>PERCEIVED ONLY BY THE PATIEN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IN 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HRONIC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CUT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INTRACTABL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Perpetua"/>
              </a:rPr>
              <a:t>THEY HAVE PAIN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5dc"/>
                </a:solidFill>
                <a:latin typeface="Perpetua"/>
              </a:rPr>
              <a:t>NEVER SECOND GUESS THEM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IF PATIENT C/O 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TYPES OF PAIN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ACUTE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- SUDDEN ONSET,SEVER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CHRONIC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- LESS SEVER, DURATION IS GREATER THAN SIX MONTH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CHRONIC INTRACTABLE- 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ANNOT BE CONTROLLED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TRANSIENT 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– COMES AND GOES,SHORT DURATION,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REQUENTLY    NOT SIGNIFICAN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PAIN 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AN BE PART OF NORMAL HEALING (SURGICAL)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HELPS LOCATE THE SOURCE OF TISSUE DAMAG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AN OCCUR IN THE ABSENCE OF PHYSICAL INJURY (PSYCHOLOGICAL PAIN)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e5dc"/>
                </a:solidFill>
                <a:latin typeface="Franklin Gothic Book"/>
              </a:rPr>
              <a:t>NOXIOUS STIMULI THAT CAN CAUSE PAIN</a:t>
            </a:r>
            <a:endParaRPr b="0" lang="en-US" sz="36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HEAT AND COLD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PRESSUR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HEMICAL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ELECTRIC SHOCK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RAUMA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NOCICEPTERS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PECIALIZED NERVE ENDINGS 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ARE STIMULATED BY TISSUE DAMAGE OR INSUL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ND PAIN MESSAGE TO BRAIN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NOCICEPTERS RESPOND TO…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TEMPERATURE EXTREMES-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 BURN,FROSTBITE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MECHANICAL DAMAGE-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 CRUSHING,SCRAPING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DISSOLVED CHEMICALS-</a:t>
            </a: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 ACIDS,POTASSIUM,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15:05Z</dcterms:created>
  <dc:creator>mflanagan</dc:creator>
  <dc:description/>
  <dc:language>en-US</dc:language>
  <cp:lastModifiedBy>mflanagan</cp:lastModifiedBy>
  <dcterms:modified xsi:type="dcterms:W3CDTF">2011-05-01T02:55:09Z</dcterms:modified>
  <cp:revision>3</cp:revision>
  <dc:subject/>
  <dc:title>PAIN</dc:title>
</cp:coreProperties>
</file>